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2E7-6584-4414-A1DF-F79C4D0B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384-BD14-4286-83FD-2F1570B3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AE2-3B08-4BB4-81A0-146E724C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F0E-D480-4EBB-B7E0-8A3AFA6A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782-7150-44A0-80D8-528B03FC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A4B-B259-45F3-B88D-E2D28157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E3A-5825-4C41-9999-5A78D7E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8FF-33C7-4612-B5C4-87218D6E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C9E-97D0-4E4D-9669-515C802E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CDA-A9A6-450B-96C3-19D7B04F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91E-AC0B-4027-8F96-1A8171EB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F03-C849-4BF5-93C7-3A8665C9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3E47-7261-43A9-BCED-AB48DF79817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2160360" cy="865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052640"/>
            <a:ext cx="1440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33360"/>
            <a:ext cx="172728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pers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nn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ivere in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651640" y="333000"/>
            <a:ext cx="1225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981000"/>
            <a:ext cx="122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0"/>
            <a:ext cx="1584360" cy="620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ovare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7080" y="836640"/>
            <a:ext cx="1798560" cy="115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fficili( esempi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uerr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1341360"/>
            <a:ext cx="57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1844640"/>
            <a:ext cx="2592360" cy="1297080"/>
          </a:xfrm>
          <a:prstGeom prst="rect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MIGRAZIONE qu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paese arriv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ranieri a vivere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rcare lavor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924280"/>
            <a:ext cx="1224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2492280"/>
            <a:ext cx="1727280" cy="15130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Italia 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rrivano immi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i soprattu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4005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5084640"/>
            <a:ext cx="172692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4581360"/>
            <a:ext cx="1727280" cy="648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43280" y="407664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557360"/>
            <a:ext cx="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65360"/>
            <a:ext cx="2484360" cy="1727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ne vanno all’est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vivere e cer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vo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99640" y="429264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869000"/>
            <a:ext cx="1727280" cy="1989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ti emig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molti 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,anche 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no di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olta, lo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che og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050920" y="458136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4221000"/>
            <a:ext cx="1873080" cy="64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e principali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87280" y="4797360"/>
            <a:ext cx="792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995640" y="494172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4941720"/>
            <a:ext cx="719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805360"/>
            <a:ext cx="1079640" cy="64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6210360"/>
            <a:ext cx="936720" cy="53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6021360"/>
            <a:ext cx="936720" cy="53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11Z</dcterms:created>
  <dc:creator>studente</dc:creator>
  <dc:description/>
  <dc:language>en-US</dc:language>
  <cp:lastModifiedBy>studente</cp:lastModifiedBy>
  <dcterms:modified xsi:type="dcterms:W3CDTF">2017-01-09T08:42:22Z</dcterms:modified>
  <cp:revision>3</cp:revision>
  <dc:subject/>
  <dc:title>Diapositiva 1</dc:title>
</cp:coreProperties>
</file>